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781-BDEF-4583-BA2A-F5E348D8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205-06F7-4EE2-80A2-A7A9294B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A95-EC04-4D7F-BC59-C9E38D47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0C0-D642-411D-ADC5-8352462C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2B9-9366-4ABF-9E2A-1C6E6D8B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E47-5951-426D-B423-811C6C6E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7FC-2056-42E7-8E8C-C324FA9B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30A-5816-4C0F-A209-998BD33E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9A3-A697-4103-804C-3268F1EA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B7A-C8A1-4222-BE5F-4DC39184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79E-72FF-452D-9842-7BC7AFF6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2ED-2F69-450F-A30F-1952F230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B0011-07E2-4073-8F46-33EF2073227C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2800" cy="755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5940360"/>
            <a:ext cx="1979640" cy="1316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17560" y="5216400"/>
            <a:ext cx="80352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240600" y="4859280"/>
            <a:ext cx="3840120" cy="272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7640" y="2068560"/>
            <a:ext cx="90709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280099"/>
                </a:solidFill>
                <a:latin typeface="Arial"/>
              </a:rPr>
              <a:t>Schlechte Verbindung?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280099"/>
                </a:solidFill>
                <a:latin typeface="Arial"/>
              </a:rPr>
              <a:t>was t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3"/>
            <a:endCxn id="41" idx="3"/>
          </p:cNvCxnSpPr>
          <p:nvPr/>
        </p:nvCxnSpPr>
        <p:spPr>
          <a:xfrm rot="16200000">
            <a:off x="10072800" y="3779640"/>
            <a:ext cx="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" name=""/>
          <p:cNvCxnSpPr>
            <a:stCxn id="41" idx="3"/>
            <a:endCxn id="41" idx="3"/>
          </p:cNvCxnSpPr>
          <p:nvPr/>
        </p:nvCxnSpPr>
        <p:spPr>
          <a:xfrm rot="16200000">
            <a:off x="10072800" y="3779640"/>
            <a:ext cx="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1947960" y="5902200"/>
            <a:ext cx="225360" cy="793800"/>
          </a:xfrm>
          <a:custGeom>
            <a:avLst/>
            <a:gdLst/>
            <a:ahLst/>
            <a:rect l="l" t="t" r="r" b="b"/>
            <a:pathLst>
              <a:path w="624" h="2206">
                <a:moveTo>
                  <a:pt x="0" y="2205"/>
                </a:moveTo>
                <a:cubicBezTo>
                  <a:pt x="162" y="1825"/>
                  <a:pt x="623" y="1469"/>
                  <a:pt x="401" y="1003"/>
                </a:cubicBezTo>
                <a:lnTo>
                  <a:pt x="161" y="601"/>
                </a:lnTo>
                <a:lnTo>
                  <a:pt x="80" y="200"/>
                </a:lnTo>
                <a:lnTo>
                  <a:pt x="20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5400720"/>
            <a:ext cx="302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 ke ve lus e au   er St ec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6659640"/>
            <a:ext cx="2570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   t   r     t      f  d     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40000" y="1558800"/>
            <a:ext cx="774072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rte eines Scans für ein fiktives Mitglied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euendor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No BSSID  CH P RSSI Noise  SNR A SS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1 BSSID  09 N -79   -93     4   bnmsp-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2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BSSID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06 Y -81   -96    15   irgend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3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BSSID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06 N -79   -91    16   bnmsp-42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4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BSSID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05 N -78   -94    16   bnmsp-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5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BSSID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11 N -78   -96    18   bnmsp-46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6 BSSID  01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N -65   -96    31 * bnmsp-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7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BSSID  11 Y -38   -96    58   WLAN-0B94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8000" y="10796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280099"/>
                </a:solidFill>
                <a:latin typeface="Arial"/>
              </a:rPr>
              <a:t>Mehr Freude am Intern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40000" y="2340000"/>
            <a:ext cx="71992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SNR und Datenrat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ollten </a:t>
            </a: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&gt;10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e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enn der Scantest ergibt, dass mein Linksys einen anderen Einstieg mit wesentlich höherem SNR sieht, </a:t>
            </a: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auf anderen Einstieg</a:t>
            </a:r>
            <a:br>
              <a:rPr sz="2600"/>
            </a:b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umstellen und Antenne neu ausrichten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on Zeit zu Zeit </a:t>
            </a: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Prüfung wiederholen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eber </a:t>
            </a: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keine privaten AP-Router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einsetzen; falls doch, </a:t>
            </a:r>
            <a:br>
              <a:rPr sz="2600"/>
            </a:br>
            <a:r>
              <a:rPr b="0" lang="de-DE" sz="2600" spc="-1" strike="noStrike">
                <a:solidFill>
                  <a:srgbClr val="ff420e"/>
                </a:solidFill>
                <a:latin typeface="Arial"/>
              </a:rPr>
              <a:t>räumliche Trennung, anderen AP-Kanal wählen und  AP-Leistung reduzier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2800" cy="7559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00720" y="128412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419640" y="1260360"/>
            <a:ext cx="1938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flochsbach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00360" y="2340000"/>
            <a:ext cx="34765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b1f6f"/>
                </a:solidFill>
                <a:latin typeface="Arial"/>
              </a:rPr>
              <a:t>            </a:t>
            </a:r>
            <a:r>
              <a:rPr b="1" lang="de-DE" sz="2800" spc="-1" strike="noStrike">
                <a:solidFill>
                  <a:srgbClr val="4b1f6f"/>
                </a:solidFill>
                <a:latin typeface="Arial"/>
              </a:rPr>
              <a:t>Vielen Dan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b1f6f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4b1f6f"/>
                </a:solidFill>
                <a:latin typeface="Arial"/>
              </a:rPr>
              <a:t>alles wird gut!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" y="5580000"/>
            <a:ext cx="538164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Die Beschreibung dieser Thematik kann auch als „optimieren_der_wlan_verbindung.pdf per Download von unserer Seite b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Hilfe“ → „Wavelink“ bezogen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0000" y="5940360"/>
            <a:ext cx="84600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sstool für alle eingebuchten Mitgli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ssungen im Minutent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40000" y="1547640"/>
            <a:ext cx="7559640" cy="395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40000" y="1260360"/>
            <a:ext cx="5783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L     Uhrzeit    IP-Adresse       SSID          Rate    S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00360" y="1979640"/>
            <a:ext cx="2879640" cy="4319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1979640"/>
            <a:ext cx="2880000" cy="4319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9640" y="1440000"/>
            <a:ext cx="7199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 Admin umgezogene Mitglieder in den letzten Wo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Vorher         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nachher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L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Einstieg SNR Rate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instieg SN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0568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2b     4    1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2       18   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128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6     16    1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3b      27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323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3      9    1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3b      29 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331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3     11    1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3b      24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372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32     11    1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31       15 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431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31c     9    2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31       21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433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12      8    1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12b      12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451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3      9    1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3b      27 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554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1     15    1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2b      27 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589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2      6    1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5       10   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592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1  0..30    2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6b      30 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601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3b    10    1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6       17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m 14.11. waren alle noch auf dem umgestellten Einsti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5120" y="1881360"/>
            <a:ext cx="8034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 u="sng">
                <a:solidFill>
                  <a:srgbClr val="280099"/>
                </a:solidFill>
                <a:uFillTx/>
                <a:latin typeface="Arial"/>
              </a:rPr>
              <a:t>Voraussetzungen für eine stabile Funkverbind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3060720"/>
            <a:ext cx="5184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80099"/>
                </a:solidFill>
                <a:latin typeface="Arial"/>
              </a:rPr>
              <a:t>SNR (Signal-Rausch-Verhältn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80099"/>
                </a:solidFill>
                <a:latin typeface="Arial"/>
                <a:ea typeface="Arial"/>
              </a:rPr>
              <a:t>≥ </a:t>
            </a:r>
            <a:r>
              <a:rPr b="1" lang="de-DE" sz="2600" spc="-1" strike="noStrike">
                <a:solidFill>
                  <a:srgbClr val="280099"/>
                </a:solidFill>
                <a:latin typeface="Arial"/>
                <a:ea typeface="Arial"/>
              </a:rPr>
              <a:t>10 db      besser &gt; 15 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9280" y="4680000"/>
            <a:ext cx="72500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80099"/>
                </a:solidFill>
                <a:latin typeface="Arial"/>
              </a:rPr>
              <a:t>Rate (mögliche Werte: 1 MBit/s bis 54 MBit/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80099"/>
                </a:solidFill>
                <a:latin typeface="Arial"/>
              </a:rPr>
              <a:t>&gt; 10 MBit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3040" y="6119640"/>
            <a:ext cx="87976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öchstmögliche Datenrate beim Linksys liegt je nach 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250 oder 350 KiByte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5759280"/>
            <a:ext cx="2381400" cy="1676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5343480"/>
            <a:ext cx="2381400" cy="1676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00360" y="3240000"/>
            <a:ext cx="7380360" cy="216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0" y="3240000"/>
            <a:ext cx="3760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Die gröbsten Fe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84520" y="6840360"/>
            <a:ext cx="1701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nmsp-Link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76640" y="5697360"/>
            <a:ext cx="1707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Falsch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vater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3887640"/>
            <a:ext cx="5865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sys und AP stehen direkt aufeina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4429080"/>
            <a:ext cx="7388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er AP und der Linksys senden auf demselben K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6840" y="4940280"/>
            <a:ext cx="5489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er AP hat eine zu hohe Sendeleis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00360" y="1440000"/>
            <a:ext cx="67532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80099"/>
                </a:solidFill>
                <a:latin typeface="Arial"/>
              </a:rPr>
              <a:t>Der Idealfall: Betrieb des Linksys für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80099"/>
                </a:solidFill>
                <a:latin typeface="Arial"/>
              </a:rPr>
              <a:t>Bürgernetz ohne zusätzliche Verwe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80099"/>
                </a:solidFill>
                <a:latin typeface="Arial"/>
              </a:rPr>
              <a:t>Eines privaten Accesspoints (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2809800"/>
            <a:ext cx="510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Wenn es denn unbedingt sein mu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57520" y="2239920"/>
            <a:ext cx="130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80099"/>
                </a:solidFill>
                <a:latin typeface="Arial"/>
              </a:rPr>
              <a:t>Abhil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2519280"/>
            <a:ext cx="1439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2519280"/>
            <a:ext cx="144000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3600360"/>
            <a:ext cx="1439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3600360"/>
            <a:ext cx="144000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1619280"/>
            <a:ext cx="2879640" cy="900000"/>
          </a:xfrm>
          <a:prstGeom prst="triangle">
            <a:avLst>
              <a:gd name="adj" fmla="val 5068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59280" y="1800360"/>
            <a:ext cx="720720" cy="53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219640" y="1440000"/>
            <a:ext cx="442800" cy="363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19640" y="4140360"/>
            <a:ext cx="720720" cy="53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29000" y="3281400"/>
            <a:ext cx="2690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 möglichst w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fernt vom Linksy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es denn sein m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0360" y="2340000"/>
            <a:ext cx="275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55e00"/>
                </a:solidFill>
                <a:latin typeface="Arial"/>
              </a:rPr>
              <a:t>Räumliche Trenn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0360" y="2884320"/>
            <a:ext cx="2791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55e00"/>
                </a:solidFill>
                <a:latin typeface="Arial"/>
              </a:rPr>
              <a:t>Mindestens 3 Kanä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55e00"/>
                </a:solidFill>
                <a:latin typeface="Arial"/>
              </a:rPr>
              <a:t>Abst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3780000"/>
            <a:ext cx="2916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55e00"/>
                </a:solidFill>
                <a:latin typeface="Arial"/>
              </a:rPr>
              <a:t>Sendeleistung des 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55e00"/>
                </a:solidFill>
                <a:latin typeface="Arial"/>
              </a:rPr>
              <a:t>reduzier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5054760"/>
            <a:ext cx="725976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Wenn beispielsweise der Linksys mit dem Bürgernetz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Einstieg mit einem SNR von 7 dB verbunden ist 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der eigene AP mit 70 dB, womöglich noch auf demsel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Kanal, „reinbrüllt“, dann ist es kein Wunder, dass 80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Paketverluste entstehen oder die Verbindung gänz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unterbrochen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19280" y="2160720"/>
            <a:ext cx="7199280" cy="2160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60720" y="1440000"/>
            <a:ext cx="5575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280099"/>
                </a:solidFill>
                <a:uFillTx/>
                <a:latin typeface="Arial"/>
              </a:rPr>
              <a:t>Anbringungsort der eigenen Anten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9280" y="2160720"/>
            <a:ext cx="264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Arial"/>
              </a:rPr>
              <a:t>Generelle Feh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9280" y="2830680"/>
            <a:ext cx="7158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r Linksys wird (nur mit seinen eigenen Anten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einem Raum hinter dem Fenster aufgestel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9280" y="3710160"/>
            <a:ext cx="4940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ie Antenne ist falsch ausgerich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9280" y="4319640"/>
            <a:ext cx="1192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280099"/>
                </a:solidFill>
                <a:latin typeface="Arial"/>
              </a:rPr>
              <a:t>Abhil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9280" y="4859280"/>
            <a:ext cx="4216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Außenantenne verwen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(siehe Wavelink → Hard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41600" y="5870520"/>
            <a:ext cx="3759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Wahl des besten Einsti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57680" y="1800360"/>
            <a:ext cx="4071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280099"/>
                </a:solidFill>
                <a:latin typeface="Arial"/>
              </a:rPr>
              <a:t>Wahl des besten Einstie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3819600"/>
            <a:ext cx="6103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ur Einstellung der ausgewählten SS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s Einstiegs finden sich genaue Erläuter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 der Seite bnmsp.de  u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7e0021"/>
                </a:solidFill>
                <a:latin typeface="Arial"/>
              </a:rPr>
              <a:t>Hilfe → Wavelink 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7e0021"/>
                </a:solidFill>
                <a:latin typeface="Arial"/>
              </a:rPr>
              <a:t>Linksys WRT54GL für Wavelink konfiguri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79640" y="2392200"/>
            <a:ext cx="630396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ur Auswahl des am besten geeigneten Einstie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indet man Hinweise un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7e0021"/>
                </a:solidFill>
                <a:latin typeface="Arial"/>
              </a:rPr>
              <a:t>Wavelink → Wavelink-Einstie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0360" y="5940360"/>
            <a:ext cx="94536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ur Optimierung der Antenneneinstellung verwendet man am bes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Hilfswerkzeu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nnrs.ex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. Kurzbeschreibung zum Download 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richten un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7e0021"/>
                </a:solidFill>
                <a:latin typeface="Arial"/>
              </a:rPr>
              <a:t>Hilfe → Wavelink → Linksys WRT54GL für Wavelink konfigurieren, Punkt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40360"/>
            <a:ext cx="1548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80099"/>
                </a:solidFill>
                <a:latin typeface="Arial"/>
              </a:rPr>
              <a:t>nnrs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697120" y="1260360"/>
            <a:ext cx="7023240" cy="515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4511520"/>
            <a:ext cx="5267160" cy="304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513240" y="3571920"/>
            <a:ext cx="655956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3:02:26Z</dcterms:created>
  <dc:creator>Eckhard von Rönn-Haß</dc:creator>
  <dc:description/>
  <dc:language>en-US</dc:language>
  <cp:lastModifiedBy>Eckhard</cp:lastModifiedBy>
  <dcterms:modified xsi:type="dcterms:W3CDTF">2010-11-17T17:26:14Z</dcterms:modified>
  <cp:revision>42</cp:revision>
  <dc:subject/>
  <dc:title>Schlechte Verbindung?  was tun?</dc:title>
</cp:coreProperties>
</file>